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59B-A348-46B8-8024-EDEFA60E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72F-A270-46FD-84C4-00388A02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9DA-358D-49CC-823B-B11A9DB9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D3C-4097-4B08-B4D5-F01FF86F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8334-572C-43D5-AE15-CC5D2C0D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DCA5-7819-4A00-B43F-8C374568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F563-25CC-4753-9D0F-E59B57F0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9034-3CD7-44C6-9D69-8A965082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F3D5-288A-4209-ACFC-77232173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4F02-58E0-4B1E-801B-5978F1C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D22-4EAD-4DE9-B189-B7CDC13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CB7-217F-4FAF-A332-AC394E2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466E-8FCA-450D-8904-AC1FEE7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2266-020B-4C7C-9179-AF59677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6C60-A62F-4988-8732-717784F9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751D-6044-43D8-9EDA-D1434E92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DC19-54DE-4C21-8839-14420C28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898-DFB3-4260-B6E7-F963EB2A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FEB-DD22-417E-A623-857723F7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838-8489-40BA-AE8E-2F42D9B6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152-3576-4976-9897-DF45109C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8EA-3BE5-4C35-9806-893B2444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1FA-3234-41B2-87B6-CA7C5428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91B-2D31-459D-B8F1-1631F3D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2F9-631F-48DC-8F97-32AFF27B14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7D80-684E-45E7-AFC6-C6A76FCEE7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roisordre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rench Revolu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EAT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ve of senseless pan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ed by rumors &amp; rebell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Fear changed into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Peasants became outla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READ M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Riot by women over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ice of 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Marched to Versail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King's resid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Forced King &amp; Queen to return to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Constitutional Governmen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ssembly created- Ends Old Reg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. 1789- Reforms made: all citizens equ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te Declaration of Rights: citizens given equal justice, freedom of speech &amp; freedom of religion (Women not include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1791- Failed Attempt by King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o esc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d to escape to Aust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Divisions Develop: 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Constitution of 1791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archy remains, but limited pow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to enforce the la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Legislative Assemb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to create la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in France led to division in Assembly (Political Spectru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Political Spectrum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rench Revolu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cobi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The Plain   Girondists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yalis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ca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Liberal       Moderate    Conservati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ction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od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vo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Favo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vor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Keep as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Return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e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so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p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        chan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tradi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1447920" y="289548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traight Connector 7"/>
          <p:cNvSpPr/>
          <p:nvPr/>
        </p:nvSpPr>
        <p:spPr>
          <a:xfrm>
            <a:off x="144792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traight Connector 11"/>
          <p:cNvSpPr/>
          <p:nvPr/>
        </p:nvSpPr>
        <p:spPr>
          <a:xfrm>
            <a:off x="327672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traight Connector 12"/>
          <p:cNvSpPr/>
          <p:nvPr/>
        </p:nvSpPr>
        <p:spPr>
          <a:xfrm>
            <a:off x="464832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3"/>
          <p:cNvSpPr/>
          <p:nvPr/>
        </p:nvSpPr>
        <p:spPr>
          <a:xfrm>
            <a:off x="617220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14"/>
          <p:cNvSpPr/>
          <p:nvPr/>
        </p:nvSpPr>
        <p:spPr>
          <a:xfrm>
            <a:off x="7848720" y="2666880"/>
            <a:ext cx="0" cy="45720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Jacobin Author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uis is executed as a traitor after deb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anuary 179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at (writer) calls for the head of roy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spierre surfaces as the revolutions voice and l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execution-louis-xvi"/>
          <p:cNvPicPr/>
          <p:nvPr/>
        </p:nvPicPr>
        <p:blipFill>
          <a:blip r:embed="rId1"/>
          <a:stretch/>
        </p:blipFill>
        <p:spPr>
          <a:xfrm>
            <a:off x="1447920" y="4038480"/>
            <a:ext cx="6019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Reign of Terr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spierre was Head of Committee of Public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are executed as enemies of the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radicals fear being 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spierre is brought down by colleagu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t in the jaw &amp; sent to the guilloti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are still star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unhap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anti%20robespierre%20cartoon"/>
          <p:cNvPicPr/>
          <p:nvPr/>
        </p:nvPicPr>
        <p:blipFill>
          <a:blip r:embed="rId1"/>
          <a:stretch/>
        </p:blipFill>
        <p:spPr>
          <a:xfrm>
            <a:off x="5105520" y="464832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French Rev. Timeline: Who controlled France?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lute Monarc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tes Gener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7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Assemb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ummer 17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onvention: Began in 17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ing Louis convicted of treason: Sent to Guillot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ttee of Public Safety: Formed to direct the war effort (Leader: Robespier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ign of Terr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July 1793-July 17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Victims: Marie Antoinette &amp; 17,000—mostly commo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ign of Terror ends when Robespierre guillotin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4267080" y="1447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4343400" y="3048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4343400" y="426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868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onstitution written: Create the Directory = Executive council of 5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 Bonap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Joined leaders in coup d’etat: Kicked out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nfo about Napole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Great military skills: Became hero because w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battles for 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Married to Josephine: leader of Paris socie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799- New constitution: Established a dictat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1804- Named himself “Emperor of the Frenc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419720" y="1295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705720" y="5791320"/>
            <a:ext cx="2438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5 Stages of the French Revolu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. ? Status Qu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? the Old Reg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ind Fla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nequalities unfair to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ovement to Refo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ring changes by National Assembly &amp; Declaration of Rights of Man &amp; Citi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ovement to Supp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onarchy of France &amp; other countries try to keep mon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hange is realiz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onarchy 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o you think?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view protesting?  Is it a useful tool in Amer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urning the American flag be unconstitutio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people decide when a revolution is needed? How do rebels create stabi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67057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Old Regime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(Social &amp; Political 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ystem in France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olute Monarch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rolled richest &amp; most powerful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nch society divided into 3 estates (class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ates determined legal rights &amp; sta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ANd9GcRwD2i5i9s6marJpk3TYEYYtYgSMI1KUOpBncnbtXuV2OcVcdueXQ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380880"/>
          <a:ext cx="8229600" cy="6099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sta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sta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stat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 EL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POPUL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LAND OWN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he &amp; to the Governm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INF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cc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lergy &amp; Lower Clerg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cc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 tith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osts in government &amp; militar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ain income: Feudal du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ncludes 3 subgroups: peasants, city workers &amp; bourgeoisi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uses of French Revolut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Growing unrest between clas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te angry…unfair situa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conomic Trou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burde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p failures: Food shor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in 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vagant spending by King &amp; Qu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Enlightenment id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tate questioned society’s stru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ired by American Rev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Weak Leader: Louis XV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cisive &amp; allowed matters to drif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d little attention to advis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Marie Antoinet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d &amp; gave poor adv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 of Austria’s royal family (France’s enem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b2b2b2"/>
                </a:solidFill>
                <a:uFillTx/>
                <a:latin typeface="Arial"/>
              </a:rPr>
              <a:t>DAWN OF A REVOLUTION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. 654-655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TES GENERAL  (1)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ASSEMBLY  (2)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NIS COURT OATH  (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MING THE BASTILLE  (4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FEAR (5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D MARCH  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STATES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Delegates represented each e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Rules: Estates meet separately &amp; had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Unfair to 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state: always outvo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TIONAL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Members of the 3rd Estat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Wanted to pass laws &amp; mak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orms (end of absolute monarc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220px-Troisord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3352680"/>
            <a:ext cx="1811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NNIS COURT OA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3rd Estate members locked out of their meeting room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Met on tennis court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Took oath: Pledge to write a new Constitution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King ordered other 2 Estates to join the National Assemb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ORMING OF THE BAST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Wanted weapons to defend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Entered the Bastille (prison) &amp; took it over by killing gu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Event to start the French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1:25:17Z</dcterms:created>
  <dc:creator>ryan</dc:creator>
  <dc:description/>
  <dc:language>en-US</dc:language>
  <cp:lastModifiedBy>Kuenzi, Robert</cp:lastModifiedBy>
  <dcterms:modified xsi:type="dcterms:W3CDTF">2014-03-18T19:08:41Z</dcterms:modified>
  <cp:revision>48</cp:revision>
  <dc:subject/>
  <dc:title>French Revolution</dc:title>
</cp:coreProperties>
</file>